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0158413" cy="7621588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45FB2-07C7-40A7-8DEF-2B09FF6748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EE9C9-66CC-411F-BD83-7CF1D4EE21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8D711-463F-4BA9-89E6-92752043DA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4058A-428A-46B2-9B6C-8FB42A7A06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4C81B-257A-47BB-8FA8-367C42D9BC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8BBE6-C5AC-46EA-96B6-D1CE276853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5583D-AF84-49C1-B9BB-B3670EFDAD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1508A-7B8E-42DA-B4D4-CC1331B686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2C44C-C052-4D27-B98A-9DBCF455D8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9523C-DE2E-4FC4-82C9-C6102090BA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D3D78-51EE-4407-B05B-3FA6E86A506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122ED-258F-4139-8C74-529E9F1F6F4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AutoShape 4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Rectangle 5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6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-50760" y="-22320"/>
            <a:ext cx="7061040" cy="2054160"/>
          </a:xfrm>
          <a:prstGeom prst="rect">
            <a:avLst/>
          </a:prstGeom>
          <a:solidFill>
            <a:srgbClr val="1c5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406440" indent="-216000">
              <a:spcBef>
                <a:spcPts val="1100"/>
              </a:spcBef>
              <a:buClr>
                <a:srgbClr val="1c589d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2" marL="673200" indent="-254160">
              <a:spcBef>
                <a:spcPts val="1100"/>
              </a:spcBef>
              <a:buClr>
                <a:srgbClr val="5a6c5f"/>
              </a:buClr>
              <a:buSzPct val="64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3" marL="171468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7524720" y="6670800"/>
            <a:ext cx="2013120" cy="774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1"/>
          </p:nvPr>
        </p:nvSpPr>
        <p:spPr>
          <a:xfrm>
            <a:off x="495252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F068-269E-4566-8E16-0B103EEE3FED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3"/>
          <a:srcRect l="0" t="34227" r="255" b="459"/>
          <a:stretch/>
        </p:blipFill>
        <p:spPr>
          <a:xfrm>
            <a:off x="8013600" y="-3240"/>
            <a:ext cx="2146320" cy="2022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4"/>
          <a:srcRect l="27090" t="0" r="0" b="24901"/>
          <a:stretch/>
        </p:blipFill>
        <p:spPr>
          <a:xfrm>
            <a:off x="5078520" y="-19080"/>
            <a:ext cx="3076560" cy="20527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8094600" y="-6480"/>
            <a:ext cx="84240" cy="203832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Rectangle 9"/>
          <p:cNvSpPr/>
          <p:nvPr/>
        </p:nvSpPr>
        <p:spPr>
          <a:xfrm rot="10800000">
            <a:off x="5079600" y="-19080"/>
            <a:ext cx="152280" cy="179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AutoShape 10"/>
          <p:cNvSpPr/>
          <p:nvPr/>
        </p:nvSpPr>
        <p:spPr>
          <a:xfrm flipH="1" rot="10766400">
            <a:off x="5079600" y="1763280"/>
            <a:ext cx="15228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3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4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AutoShape 5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Rectangle 17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8" name="Picture 18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0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4" name="Picture 15" descr="H&amp;V Logo"/>
          <p:cNvPicPr/>
          <p:nvPr/>
        </p:nvPicPr>
        <p:blipFill>
          <a:blip r:embed="rId5"/>
          <a:stretch/>
        </p:blipFill>
        <p:spPr>
          <a:xfrm>
            <a:off x="8432640" y="640080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6200" y="-360"/>
            <a:ext cx="8636040" cy="18622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5a6c5f"/>
                </a:solidFill>
                <a:latin typeface="Garamond"/>
              </a:rPr>
              <a:t>MIIA - Blue Cross Blue Shield Proposed Benefits </a:t>
            </a:r>
            <a:endParaRPr b="0" lang="en-US" sz="3800" spc="-1" strike="noStrike">
              <a:solidFill>
                <a:srgbClr val="5a6c5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Out-Of-Pocket Maximu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7960" y="2590560"/>
            <a:ext cx="922032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urrent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Enhanced Tier admission out of pocket maximum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Standard or basic tier admissio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300. out of pocket maximum for Surgical Day Care Admissions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ew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all inpatient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out of pocket maximum for surgical day care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55320" y="45684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ealthy Livi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200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Fitne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Weight Lo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ildbirth Cla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Babi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Line:  1-888-247-BLUE (2583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Vision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Naturally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afe Beginnings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79000" y="30456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ember Central Accoun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4568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reate An Online Account, Then You C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ange Your PCP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quest A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Plan Benef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rack Your Deductible &amp; Coinsuranc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nroll In My Blue Health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9067680" cy="4546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or Provider Information Or Question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n Your Membership, Benefits, Referrals O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Member Service Toll-free Number O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nday - Friday, 8 a.m. - 6 p.m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r 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lan Offering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MO Blue New England (HM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Elect Preferred  (PP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A8B7-A1BA-4BC6-8B99-4BAD11347AAF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MO Blue New England HMO Blu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60240" y="2514240"/>
            <a:ext cx="88394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Use HMO Blue Network Provid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CP Required – Change Anytime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ferrals To Network Speciali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For:  OB/GYN Care, Chiropractic Care, Outpatient Behavioral Health Visits, Routine Vision Exam, Emergency Or Out-Of-Area Urgent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lue Care Elect Preferred (PPO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6400" y="3048120"/>
            <a:ext cx="8178840" cy="3581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Primary Care Physician Neede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Needed For Specialty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ational Network – Ability to have services rendered out of state at the same out of pocket cost as HMO memb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66092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ind A Blue  Cross Network Provide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12880" y="28191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Physician Selection Service 1-800-821-1388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sk Your Providers If They Are In The HMO Blue Networ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oposed Chang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6400" y="2590920"/>
            <a:ext cx="8178840" cy="403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ddition of a plan year deductible for some services - $250 Per Individual, $750 Per Famil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imary Care Physician Office Visits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pecialist Office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mergency Room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RI, CT and PET Scan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escription Drug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5B57-1A48-422B-8B54-2BF1637BDC4D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That Are Not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03040" y="2057400"/>
            <a:ext cx="9956880" cy="5105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9000"/>
          </a:bodyPr>
          <a:p>
            <a:pPr marL="226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ERVICES THAT ARE NOT SUBJECT TO DEDUCTIBL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ventive Visits, Related Tests &amp; Immunizations: You Pay $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no change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iagnostic PCP, OB/GYN, Nurse Practitioner Visits:  You Pay $2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0 to $20 per visit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ental Health Office Visits You Pay $15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Other Professional Providers &amp; Specialist Visits: You Pay $35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pay $2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scription Drugs   You Pay 10/25/50 for a 30 day supply, 20/50/110 through Mail Service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have a 10/20/40 for retail, 20/40/90 mail.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hiropractic Visits – You pay $20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5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hort Term Rehabilitation Therapy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peech, hearing, and language disorder treatment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0"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C93E-E30C-4688-88B8-1BDC4A1721B7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79360" y="2133360"/>
            <a:ext cx="9524880" cy="51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fter You Pay $250/$750. Plan Year Deductible, Then: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iagnostic Labs, X-Rays &amp; Other Tests: You Pay  $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T, Pet Scans and MRI - $100 per category of tests (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mergency Room: You Pay $10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00 with no deductible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npatient Admissions:  You Pay $300 at a lower cost hospital, $700 at a higher cost hospital.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200 for Lower cost hospitals and $400 for higher cost hospital with no deductible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Surgical Day Care – You Pay $150 per admission after deductible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50 and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ospice and Home Health Care -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(today you pay nothing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urable Medical Equipment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You Pay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Prosthetic Devices – You pay Nothing after deductible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 –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20% co-insuranc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0">
              <a:lnSpc>
                <a:spcPct val="80000"/>
              </a:lnSpc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Why Change?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enefits will not change for a period agreed upon by management and labor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hidden out of pocket co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off anniversary rates increas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ductible is plan year not calendar yea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Cashman Elementary School</cp:lastModifiedBy>
  <dcterms:modified xsi:type="dcterms:W3CDTF">2012-05-09T12:26:38Z</dcterms:modified>
  <cp:revision>546</cp:revision>
  <dc:subject/>
  <dc:title>Corporate Update &amp; Vision for Affordability</dc:title>
</cp:coreProperties>
</file>